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76D-5716-4AC9-9B58-9AB42F5686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itoring – impact on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licability elsewhere – issues to take into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f7f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f7f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e1d1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f7f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f7f2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0007a"/>
              </a:buClr>
              <a:buSzPct val="8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daf7f2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daf7f2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f7f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22280"/>
            <a:ext cx="77724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d7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e5ffd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Ethiopia Safety-Nets –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ave the Children experience</a:t>
            </a:r>
            <a:br>
              <a:rPr sz="4400"/>
            </a:b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daf7f2"/>
                </a:solidFill>
                <a:latin typeface="Arial"/>
              </a:rPr>
              <a:t>Heather Kindness</a:t>
            </a:r>
            <a:br>
              <a:rPr sz="2000"/>
            </a:br>
            <a:r>
              <a:rPr b="0" lang="en-GB" sz="2000" spc="-1" strike="noStrike">
                <a:solidFill>
                  <a:srgbClr val="daf7f2"/>
                </a:solidFill>
                <a:latin typeface="Arial"/>
              </a:rPr>
              <a:t>Food Security and Livelihoods Advisor, Save the Children UK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rogram overview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sh program, Meket Woreda, Amhara Region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70,000 chronically food insecure people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sh for work and gratuitous relief (for non-able bodied households and pregnant and lactating women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mplementation started 2003 (pre and during PSNP)*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sh transfer = amount it costs to buy 15kg staple food per person per month (for </a:t>
            </a:r>
            <a:r>
              <a:rPr b="0" lang="en-GB" sz="2400" spc="-1" strike="noStrike">
                <a:solidFill>
                  <a:srgbClr val="47c700"/>
                </a:solidFill>
                <a:latin typeface="Arial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months) </a:t>
            </a:r>
            <a:r>
              <a:rPr b="0" lang="en-GB" sz="24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in 2004 this was 25 birr (about USD 4) per beneficiary per month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rogram overview (2)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hild nutrition focus: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Caring practices of young children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lationship with household access to economic and human resourc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Assessment methods: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Household expenditure data collected monthly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Household Economy Analysis impact assessment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</a:rPr>
              <a:t>Focus group discussions with female beneficiaries with children aged 6 – 24 months (most chronic malnutrition irreversible after this age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Impac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ncreased feeding frequency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ncreased dietary diversity (wider variety of grains and  pulses; more livestock products and oil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Greater ability to purchase soap and cloth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More timely access to medical care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duction in mothers’ time collecting firewood and dung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Lower migration rat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ndirect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– livestock purchases (</a:t>
            </a:r>
            <a:r>
              <a:rPr b="0" lang="en-GB" sz="24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income and coping)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7c7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47c7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47c700"/>
                </a:solidFill>
                <a:latin typeface="Arial"/>
                <a:ea typeface="Times New Roman"/>
              </a:rPr>
              <a:t>Would expect all these to improve children’s nutrition and health statu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Size of chang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No anthropometric data, but impact likely small because: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Program relatively new – beneficiaries concerned it could stop at any time, so prioritised expenditure such as on livestock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Probable that women do not fully known how a well-nourished child should develop and why 0 – 24 months window </a:t>
            </a:r>
            <a:r>
              <a:rPr b="0" lang="en-GB" sz="24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 may be preventing expenditure prioritisation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Level of transfer (set according to food gap – not according to the cost of an adequate diet, minimum non food needs, typical health costs etc.)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Replicability – lessons learn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9810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Objective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ducing food insecurity, malnutrition, poverty, other?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Livelihood protection, prevention and productive?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s design appropriate to achieve all objectives?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Implications for transfer levels, targeting, response package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Replicability – lessons learnt (2)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828800"/>
            <a:ext cx="8381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f7f2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Design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Good livelihood analysis, to inform: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Targeting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Relevance of responses (eg. public works design in – whether would work in pastoral areas </a:t>
            </a:r>
            <a:r>
              <a:rPr b="0" lang="en-GB" sz="2000" spc="-1" strike="noStrike">
                <a:solidFill>
                  <a:srgbClr val="daf7f2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 difficulty of targeting moving people + issue of existing traditional safety nets)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Recognising the long-term dependent chronically poor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daf7f2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Productive component 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- Links between transfers and other food security element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- Household assets versus community asset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- Graduation issues (what does it mean, what’s needed)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Replicability – lessons learnt (3)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Transfer levels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For different objectives – eg. considering the cost of an adequate diet (kcal and micronutrients)?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Differential transfers / wage rates within and across region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Flexible duration of transfers (different levels of vulnerability geographically, and different vulnerable groups within areas)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Varying wage rates with price change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24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af7f2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af7f2"/>
                </a:solidFill>
                <a:latin typeface="Arial"/>
                <a:ea typeface="Times New Roman"/>
              </a:rPr>
              <a:t>Transfer types - cash or food or mix?</a:t>
            </a:r>
            <a:endParaRPr b="0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Consistent preference – cash when = value or more than food   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Context specific assessment, dependent on number of factor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47c7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af7f2"/>
                </a:solidFill>
                <a:latin typeface="Arial"/>
                <a:ea typeface="Times New Roman"/>
              </a:rPr>
              <a:t>Impact of cash payments on the market – not addressed, important issue, particularly for replication &amp; large-scale projects</a:t>
            </a:r>
            <a:endParaRPr b="0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5:05:56Z</dcterms:created>
  <dc:creator>--</dc:creator>
  <dc:description/>
  <dc:language>en-US</dc:language>
  <cp:lastModifiedBy>COE</cp:lastModifiedBy>
  <cp:lastPrinted>2003-02-26T16:36:03Z</cp:lastPrinted>
  <dcterms:modified xsi:type="dcterms:W3CDTF">2007-03-13T08:12:06Z</dcterms:modified>
  <cp:revision>230</cp:revision>
  <dc:subject/>
  <dc:title>Vision</dc:title>
</cp:coreProperties>
</file>